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2692-CA22-4A14-957C-6258D298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8080-D57A-4963-8587-C093EAE2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1D1D-7CB8-40C3-9A63-A3D981EF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6016-0332-4D35-ADA3-EFC1335E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A40C-79E1-491E-BB68-86CED486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FE5A-0978-49B6-9203-2382F77D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9A51-E51E-42F5-97EB-EDD6384D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168F-62F0-496D-B835-7DFD7220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D5A0-1649-4979-AFE1-4D13D514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AE6B-2022-4FDB-AE07-09D3D25F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8AD4-58D4-4A24-9029-97E23C3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0239F-FD92-494A-9982-B4AD7FA8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A55D-8654-440B-8D5E-EA9172C4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E8EE-32A8-4F6C-BF27-BCF51603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4B14-1236-4A92-BC5A-85BDD0B9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5F13-A0F7-4173-8669-0DBE1166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F53-D8A8-4D7B-8D1F-B8272F7E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667D-4671-4052-8147-0DC6FE53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0A1B-A4B2-4841-BF1A-11A57514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83EB-9229-44E6-AF73-34A23EA4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3760-A9D1-49F7-85FE-1B911139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7EDD-818C-4588-9369-FC5D730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2417-7749-41D8-9A6A-10211D5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2659-26CD-4DD8-A890-0BF9FFBE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18AF-6050-4582-BC93-8FA21B95D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4FD1-D14B-45D7-9BEF-AB08C3416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プロモーションスペース等運営委託　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3C6E-A613-47D8-AA14-5FEAD1A79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7T00:13:10Z</dcterms:created>
  <dc:creator/>
  <dc:description/>
  <dc:language>en-US</dc:language>
  <cp:lastModifiedBy/>
  <dcterms:modified xsi:type="dcterms:W3CDTF">2023-01-17T00:13:13Z</dcterms:modified>
  <cp:revision>1</cp:revision>
  <dc:subject/>
  <dc:title/>
</cp:coreProperties>
</file>